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022-8008-4704-844F-B494F526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A7C-5044-4354-83B4-31B9E5EF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3DF-E1B0-41A9-8AAF-FD07AD51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653-456A-416A-8741-DA5A5A50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924-923D-4384-89BE-B0B74FA4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EF7-E6AD-452B-96B7-4C000C4B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41B-8A20-418B-91C4-E07CD1FF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7CA-7DD1-4E89-BAC5-2ABF1FC4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831-179B-4218-B158-553A3168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937-5284-484E-9371-BA00B21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F64-253D-4620-9DC8-59EE53A7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10E-1DC6-4870-98FB-AC2CA06F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0491-C33C-41C5-8AE2-8E12673FE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p3.blogger.com/_vtFEySmtf_4/RdXmfE446nI/AAAAAAAAAG4/JpEFTroTMxc/s1600-h/ud5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0195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Rascal at the World's Ugliest Dog Competition"/>
          <p:cNvPicPr/>
          <p:nvPr/>
        </p:nvPicPr>
        <p:blipFill>
          <a:blip r:embed="rId1"/>
          <a:stretch/>
        </p:blipFill>
        <p:spPr>
          <a:xfrm>
            <a:off x="1295280" y="1219320"/>
            <a:ext cx="65534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4978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1722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77155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914400"/>
            <a:ext cx="5562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22:06:02Z</dcterms:created>
  <dc:creator> Judy Leff</dc:creator>
  <dc:description/>
  <dc:language>en-US</dc:language>
  <cp:lastModifiedBy> Judy Leff</cp:lastModifiedBy>
  <dcterms:modified xsi:type="dcterms:W3CDTF">2008-09-22T22:20:58Z</dcterms:modified>
  <cp:revision>5</cp:revision>
  <dc:subject/>
  <dc:title>Slide 1</dc:title>
</cp:coreProperties>
</file>